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2BF-EBE2-4C2C-9DFB-966AB9D0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07B7-754F-4057-BF41-776B521F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EF1-EAA8-43E1-967C-F2AD6FB0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C2C-310E-4F7B-9035-C73A9DB6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B7D7-7AF9-4456-AB7A-D8F58927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D53E-AD92-4272-9404-C94D8824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ADBE-7A58-4A03-A0CC-20952A76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ACA8-1DE5-4AA3-A83C-8A016515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8059-199C-43AF-AC55-FB588008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B626-1068-40EC-9773-5A86BF34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2905-8D27-4357-94E3-ECBAC90D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2EC-53CE-46D4-B153-DD859A22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1CCA-7837-45CB-A060-E005CEEE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57CD-926C-4A56-8887-F214140B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F79B-E66D-4020-8968-236E670A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393E-3258-4840-8501-BF316423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3D9F-31D0-43F5-8569-3A043F1A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F83-F03C-496C-97E7-AB87415B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3A08-3161-4929-88AD-D869F662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1BC-EE61-41F8-8309-134F4445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F21A-6C4A-4D14-AC1E-4AFFB303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80F-D9D1-4882-8F1B-4FE2DA6D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E71C-CD2E-4A0D-88B4-3EB91A1B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8E9-D985-4990-A423-49CA0766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9D8E-D81B-45FD-890D-DEA0E2D259C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6D80-4F26-45E2-AB50-B0AAB27A7F4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6285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Garamond"/>
              </a:rPr>
              <a:t>СИСТЕМА ГАРАНТИРОВАННОЙ ДОСТАВКИ СООБЩЕНИЙ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Garamond"/>
              </a:rPr>
              <a:t>ВЕРСИИ 3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71640" y="3284280"/>
            <a:ext cx="71769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Клиентское приложение СГДС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89000"/>
            <a:ext cx="14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Мониторинг  клиента СГДС 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9079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Вкладка  «Соединен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767640" cy="4478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189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2500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Вкладка «Криптосистема»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201080" cy="4759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9280" y="189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Вкладка «Хранилища»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7129440" cy="4711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9280" y="189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Garamond"/>
              </a:rPr>
              <a:t>Вкладка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«Прокси»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912000" cy="4564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9280" y="18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Вкладка «Журналы»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7056360" cy="466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9280" y="189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Вкладка «Общие»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985080" cy="4627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189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Вкладка «Помощь»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189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62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Инсталляция клиентского приложения СГДС 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905440" cy="4431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8900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52932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Сведения о пользовател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408720" cy="478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9280" y="189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466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Выбор вида установк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264360" cy="4684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79280" y="18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Выбор папки установки СГДС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121440" cy="4578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9280" y="18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708360" y="2852640"/>
            <a:ext cx="3086280" cy="295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835280" y="1628640"/>
            <a:ext cx="61214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Выбор компонентов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266160" cy="4687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9280" y="189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Программа готова к установк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6193080" cy="4629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9280" y="189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Настройка клиентского приложения СГДС 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8920" y="4724280"/>
            <a:ext cx="58323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Зеленый – установлено соедин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314640" cy="371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26920" y="4797360"/>
            <a:ext cx="276480" cy="314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79280" y="189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170028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Цвет значка (пиктограммы)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SMonitor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СГДС 3 может быть двух цвет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3500280"/>
            <a:ext cx="54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Желтый – соединение разорван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Запуск службы мониторинга СГДС 3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5616720" cy="2435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9280" y="18900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11:16:32Z</dcterms:created>
  <dc:creator>ivan</dc:creator>
  <dc:description/>
  <dc:language>en-US</dc:language>
  <cp:lastModifiedBy>AdministratorNat</cp:lastModifiedBy>
  <dcterms:modified xsi:type="dcterms:W3CDTF">2006-08-22T04:52:43Z</dcterms:modified>
  <cp:revision>10</cp:revision>
  <dc:subject/>
  <dc:title>«СИСТЕМА ГАРАНТИРОВАННОЙ ДОСТАВКИ СООБЩЕНИЙ  ВЕРСИИ 3 » </dc:title>
</cp:coreProperties>
</file>